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53EB-41CC-4913-A2DD-ECB1649A6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4496-F8CC-4ECE-A196-739DA0E2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D1AE-44A2-4904-AA33-597EAB5B7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2D5D-16E4-46B0-8525-48F14B031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2173-4D2C-4769-90A2-E8C875F34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85582-E0DE-4008-83EE-DA8345EA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68D75-0922-410B-AA4A-39F9A0CC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9308-13BF-413F-A66B-3C4A8BAB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52C9A-D5DA-4CA1-93F5-CCC488E8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C6BF7-9B78-4825-9277-C9C9FD10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80F3-3503-4129-97F6-29D5308D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883D-2415-446D-9851-841FAAD2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68E6-5FC7-4AC7-B4C1-863CAA87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7FA2-0EF4-4E40-A571-E7D5BEA2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5109-5CE9-47A6-ABCB-44320839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60906-4319-4C8C-8FD7-7691DAE30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B315-92FD-434F-89A3-5D27BBE85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F723DB-9F5F-4215-B188-661D328BD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64CF4B-ECE8-4E8C-B365-9EB77A43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06BA4A-FB53-458E-A0FD-BF726483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B1C6C2-4A59-4F92-B674-CA1117B2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C6EBBD-4DD8-499C-A0BC-3EC95F89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2436-4BE5-4A84-8729-F31EEF30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5BE038-6003-43C1-8EB7-1205845A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898DEC-2E99-4195-8BD7-A885D2F8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DD05B2-4ADC-4432-857F-8276729A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70A58E-B5E9-4DD8-B819-87282493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93515D-6D83-4734-A72F-D18632C0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6F6449-8772-4F00-9E51-12222104A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D7DD68-1657-4DD5-9CF4-B05A12C48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E68FD-4AD8-490F-B930-3EFF3BF92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AC9AA-B57D-4B2A-8D3F-6398366A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828CB-38A1-4F9F-B84E-0198E74A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73FA-73B0-4297-BC74-CA761DBC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9A006-A125-4C08-8448-D1DAF030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A67EB-2A46-4FF7-B7E5-B429BD28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D6C90-DD76-4BC7-95B6-2B46027B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9CED2-C943-4EF9-908E-B9488768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845EE-0854-4362-A2AD-2BAC1A03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D77D6-E3BB-4FC2-A38E-2E71423B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B87A2-8761-4E3E-9755-D076DF91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62770-DB57-40C9-BF38-494B5E08F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3635D-E9EA-435C-84EB-CBAA3083F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95FF-7EB4-41D0-BCED-E0133A63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54A8-EA01-4379-A53C-AB1971AC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41DB-30ED-4A96-ABF3-D91A8D73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E210-BD8B-4607-9194-C898ADB4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D876-1B92-469D-AF89-BE46ACF7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19f2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19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19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19f2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19f2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6ea0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6ea0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5d626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19f2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19f27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786F-7559-456F-B5DA-01668C1F1CE9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f19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f19f2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f19f27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f19f27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f19f27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f19f2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f19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f19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19f2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6ea0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6ea0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5d626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19f2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19f27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C7F0-6672-406F-8790-8AAD36258359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19f2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19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19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19f2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19f2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6ea0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6ea0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5d626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19f2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19f27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1EAF-6743-4E81-8949-108EE7AD036D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19f2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19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19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19f2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19f2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6ea0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6ea0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5d626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19f27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19f27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0152-5D66-487F-9718-069DCB0A555D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ffff"/>
                </a:solidFill>
                <a:latin typeface="Trebuchet MS"/>
              </a:rPr>
              <a:t>Thinkgeek Fix-it</a:t>
            </a:r>
            <a:br>
              <a:rPr sz="4400"/>
            </a:br>
            <a:r>
              <a:rPr b="0" lang="fi-FI" sz="4400" spc="-1" strike="noStrike">
                <a:solidFill>
                  <a:srgbClr val="ffffff"/>
                </a:solidFill>
                <a:latin typeface="Trebuchet MS"/>
              </a:rPr>
              <a:t>jokanörtin asennuspaketti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28760" y="385776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  <a:ea typeface="Verdana"/>
              </a:rPr>
              <a:t>ThinkGeek.co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1619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Trebuchet MS"/>
              </a:rPr>
              <a:t>Nopean tilaajan etuna.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5214960" y="2500200"/>
            <a:ext cx="3809880" cy="39909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7200" y="2249640"/>
            <a:ext cx="511488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  <a:ea typeface="Verdana"/>
              </a:rPr>
              <a:t>Valkoinen tai must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  <a:ea typeface="Verdana"/>
              </a:rPr>
              <a:t>Koot S-XX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  <a:ea typeface="Verdana"/>
              </a:rPr>
              <a:t>Kestävää ja konepestävää puuvilla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Trebuchet MS"/>
              </a:rPr>
              <a:t>Leatherman Skeletool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6216480" y="1714680"/>
            <a:ext cx="2927520" cy="49766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Valmistettu ruostumattomasta teräksestä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Painaa vain 140 gramma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Avattavissa yhdellä kädellä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Sisältää mm. Täysikokoiset pihdit joissa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sivuleikkurit, pullonavajaan, veitse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Trebuchet MS"/>
              </a:rPr>
              <a:t>Flexible Shat Ratcheting Screwdriver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3571920" y="4286160"/>
            <a:ext cx="3857760" cy="2286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  <a:ea typeface="Verdana"/>
              </a:rPr>
              <a:t>Räikkä-tyyppinen vääntömekaniikka: voidaan lukita pyörimään molempiin suuntii normaalin ruuvimeisselin tyyliin tai auki/kiinni asentoon jolloin työkalu toimii kuin räikkä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  <a:ea typeface="Verdana"/>
              </a:rPr>
              <a:t>Taipuisa, sisäänrakennettu 15cm pitkä lisävarsi jonka avulla pääsee operoimaan hankalemmassakin kulmassa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  <a:ea typeface="Verdana"/>
              </a:rPr>
              <a:t>Voidaan lukita joko taipuisaan asentoon tai suljettuun asentoo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  <a:ea typeface="Verdana"/>
              </a:rPr>
              <a:t>15 vaihdettavaa kärkeä ja viisi erikokoista hylsyä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Verdana"/>
                <a:ea typeface="Verdana"/>
              </a:rPr>
              <a:t>Kaikki vaihtopäät mahtuvat työkaluun säilytyksee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Trebuchet MS"/>
              </a:rPr>
              <a:t>MagnoGrip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  <a:ea typeface="Verdana"/>
              </a:rPr>
              <a:t>Magneettirannek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  <a:ea typeface="Verdana"/>
              </a:rPr>
              <a:t>Pitää ruuvit, mutterit ja vaihtopäät käden ulottuvilla eikä osat varmasti kato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  <a:ea typeface="Verdana"/>
              </a:rPr>
              <a:t>Sopii maksimissaan 30cm ympärimitaltaan olevaan ranteesee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  <a:ea typeface="Verdana"/>
              </a:rPr>
              <a:t>Tehty kulutustakestävästä kankaast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  <a:ea typeface="Verdana"/>
              </a:rPr>
              <a:t>Tarrakiinnity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Trebuchet MS"/>
              </a:rPr>
              <a:t>ColdHeat Pro Soldering Tool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Kompaktin kokoinen pikakolvi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Kuumenee kolmeensataan asteeseen sekunnissa, jäähtyy muutamassa sekunniss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Vaatii 5 AA-paristoa (sisältyy pakettiin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n. 700 juotosta yksillä paristoill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Superkirkas ledi valaisemaan juotoskohta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Tulee omassa näyttävässä kotelossaa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3786120" y="4714920"/>
            <a:ext cx="381024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PatchTest Ethernet Cable Tester &amp; Ethernet Loopback Jack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5143680" y="2286000"/>
            <a:ext cx="3809880" cy="2247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"/>
          <p:cNvPicPr/>
          <p:nvPr/>
        </p:nvPicPr>
        <p:blipFill>
          <a:blip r:embed="rId2"/>
          <a:stretch/>
        </p:blipFill>
        <p:spPr>
          <a:xfrm>
            <a:off x="5214960" y="4500720"/>
            <a:ext cx="2095560" cy="1657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2249640"/>
            <a:ext cx="511488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  <a:ea typeface="Verdana"/>
              </a:rPr>
              <a:t>Testaa nopeasti ja näppärästi kaapelin eheyde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  <a:ea typeface="Verdana"/>
              </a:rPr>
              <a:t>Kompaktin kokoinen ja kestävä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  <a:ea typeface="Verdana"/>
              </a:rPr>
              <a:t>Kannettavissa kätevästi esim. avaimenperässä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  <a:ea typeface="Verdana"/>
              </a:rPr>
              <a:t>Ilmaisee ledeillä karkeasti kaapelin tyypi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Trebuchet MS"/>
              </a:rPr>
              <a:t>Säilytyspussi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4786200" y="1857240"/>
            <a:ext cx="4357800" cy="4822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2249640"/>
            <a:ext cx="482904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  <a:ea typeface="Verdana"/>
              </a:rPr>
              <a:t>Kätevän kokoine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  <a:ea typeface="Verdana"/>
              </a:rPr>
              <a:t>Sulkee sisäänsä kaikki paketin työkalut ja tilaa jää muillekkin työkaluill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  <a:ea typeface="Verdana"/>
              </a:rPr>
              <a:t>Kolme vetoketjullista tasku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  <a:ea typeface="Verdana"/>
              </a:rPr>
              <a:t>Klipsilukitu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Verdana"/>
                <a:ea typeface="Verdana"/>
              </a:rPr>
              <a:t>Kestävä ja konepestävä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Trebuchet MS"/>
              </a:rPr>
              <a:t>Paketin sisältö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1 kpl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ColdHeat Pro Soldering Too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$29.99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1 kpl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Flexible Shaft Ratcheting Screwdriv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$19.99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1 kpl MagnoGrip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$14.99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1 kpl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Leatherman Skeletoo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$69.99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1 kpl PatchTest Ethernet Cable Test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$49.99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1 kpl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Ethernet Loopback Jack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$6.99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1 kpl Säilytyspussi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$10.00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  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---------------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Yhteensä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$210.94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-40%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5d62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Pakettihinta</a:t>
            </a:r>
            <a:r>
              <a:rPr b="1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Verdana"/>
                <a:ea typeface="Verdana"/>
              </a:rPr>
              <a:t>$125.99</a:t>
            </a:r>
            <a:r>
              <a:rPr b="0" lang="fi-FI" sz="6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1" descr=""/>
          <p:cNvPicPr/>
          <p:nvPr/>
        </p:nvPicPr>
        <p:blipFill>
          <a:blip r:embed="rId1"/>
          <a:stretch/>
        </p:blipFill>
        <p:spPr>
          <a:xfrm>
            <a:off x="444600" y="1974960"/>
            <a:ext cx="805320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1T12:13:41Z</dcterms:created>
  <dc:creator>Pyhis</dc:creator>
  <dc:description/>
  <dc:language>en-US</dc:language>
  <cp:lastModifiedBy>Pyhis</cp:lastModifiedBy>
  <dcterms:modified xsi:type="dcterms:W3CDTF">2008-05-12T04:23:05Z</dcterms:modified>
  <cp:revision>19</cp:revision>
  <dc:subject/>
  <dc:title>Techgeek ultimate jokanörtin asennuspaketti</dc:title>
</cp:coreProperties>
</file>