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B2A-F0E0-4E90-A080-35A918FC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3FE-D951-43E2-8B51-4E90D402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3AE-3B0B-4E05-A5C3-A91190A3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613-640F-41E6-8F0E-BE077546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AF5E-634D-4304-B584-365F2D7A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4670-2B7E-41FE-BE9E-9EAED506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57D1-EECD-478D-B0D6-71596C2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7584-1550-4679-A840-6E6DC33A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7703-B268-4779-93E3-54D0952C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8539-99C9-42CE-B756-3D4EF365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D89-DEFD-4944-96E3-425C47A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3C8-AA6E-4C53-98AE-27CC0103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F059-5B6C-4FB6-A501-030C63F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5A81-258D-42A4-9CF9-EA420C0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8B25-F8C2-438C-A084-0752561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6604-8509-4F15-89EF-A37A781D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4D6D-F356-4073-9B16-BF8050E9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DAB9B-C0B6-47D5-AAD9-FD314406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DA6E2-C521-459E-999F-9D6B57A7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34672-D29C-4D2C-9BE3-A48798CC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F5FB8-CE50-4B9F-90F0-05AC0A97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FC37A-F52A-440F-B3BD-A8A1F9DC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AC6-7D1A-4B80-95BA-3D22BE0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A4A34-64AF-4D2D-81D4-9A66D29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DB68C-6B98-4234-9790-2F9D586A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242B3-78D9-4D6F-A158-56DF4507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029E4-2F00-4C56-8751-B7CE47DE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BCA2E-9B4E-4ADA-96FE-EED5F13C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EF2D1-D626-4115-BDC4-BF9A7CA0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18F10-134D-4EC6-A089-9872BC35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6B9B-ECE4-4C66-9E25-3E4949DB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28F9-9D68-4999-970B-8BAEF57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659C-EE08-4AC3-869B-BF52AF89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F1B-9056-4322-B099-FAD024F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D9DE-E195-4190-8C4B-56ED80F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A243-98BD-46B8-A6CD-C8DCA89B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F559-0E47-49E0-9E96-58BDFA92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0CAF-3302-4ED5-B051-15F2C3AD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6D87-5A52-4BB7-B9B6-F69F48F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CD44-E934-49BD-8A58-A395934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29E8-8B6B-4B3A-BCD4-F579C75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4EC4-86D7-40F0-9E7F-265262F1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E0424-EC7C-4B6A-8DDA-5B9631F2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B2B-BD7C-497F-B14B-BC03606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7A4-430D-43E8-B1EE-44FE9EF6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E65-A09C-4154-A68E-5E8AD2F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AE4-D9F1-46A7-A03C-3A60213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E9F-A1C2-4A76-A95C-AFF8B43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1F3-FF2C-4120-A4DD-DB3CC810C7C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19f2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19f2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19f2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75B7-2C71-4DE9-92FF-9DD382E4462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A9D-23FA-4A70-BCD6-F89E0B97BDE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40D-D1D6-4A71-A8A7-E02F25614B2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Trebuchet MS"/>
              </a:rPr>
              <a:t>Thinkgeek Fix-it</a:t>
            </a:r>
            <a:br>
              <a:rPr sz="4400"/>
            </a:br>
            <a:r>
              <a:rPr b="0" lang="fi-FI" sz="4400" spc="-1" strike="noStrike">
                <a:solidFill>
                  <a:srgbClr val="ffffff"/>
                </a:solidFill>
                <a:latin typeface="Trebuchet MS"/>
              </a:rPr>
              <a:t>jokanörtin asennuspaketti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876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hinkGeek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Nopean tilaajan etuna.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5214960" y="2500200"/>
            <a:ext cx="3809880" cy="3990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2249640"/>
            <a:ext cx="5114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  <a:ea typeface="Verdana"/>
              </a:rPr>
              <a:t>Valkoinen tai mus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  <a:ea typeface="Verdana"/>
              </a:rPr>
              <a:t>Koot S-XX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  <a:ea typeface="Verdana"/>
              </a:rPr>
              <a:t>Kestävää ja konepestävää puuvilla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Leatherman Skeletoo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6480" y="1714680"/>
            <a:ext cx="2927520" cy="4976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Valmistettu ruostumattomasta teräksestä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Painaa vain 140 gramma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Avattavissa yhdellä kädellä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Sisältää mm. Täysikokoiset pihdit joissa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sivuleikkurit, pullonavajaan, veits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Trebuchet MS"/>
              </a:rPr>
              <a:t>Flexible Shat Ratcheting Screwdrive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3571920" y="4286160"/>
            <a:ext cx="385776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Räikkä-tyyppinen vääntömekaniikka: voidaan lukita pyörimään molempiin suuntii normaalin ruuvimeisselin tyyliin tai auki/kiinni asentoon jolloin työkalu toimii kuin räikkä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Taipuisa, sisäänrakennettu 15cm pitkä lisävarsi jonka avulla pääsee operoimaan hankalemmassakin kulmass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Voidaan lukita joko taipuisaan asentoon tai suljettuun asento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15 vaihdettavaa kärkeä ja viisi erikokoista hylsyä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Kaikki vaihtopäät mahtuvat työkaluun säilytykse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MagnoGrip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Magneettirannek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Pitää ruuvit, mutterit ja vaihtopäät käden ulottuvilla eikä osat varmasti kato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Sopii maksimissaan 30cm ympärimitaltaan olevaan ranteese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ehty kulutustakestävästä kankaa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arrakiinnit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ColdHeat Pro Soldering Too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Kompaktin kokoinen pikakolv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Kuumenee kolmeensataan asteeseen sekunnissa, jäähtyy muutamassa sekunniss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Vaatii 5 AA-paristoa (sisältyy pakettii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n. 700 juotosta yksillä paristoil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Superkirkas ledi valaisemaan juotoskohta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Tulee omassa näyttävässä kotelossa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786120" y="4714920"/>
            <a:ext cx="38102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atchTest Ethernet Cable Tester &amp; Ethernet Loopback Jac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214960" y="4500720"/>
            <a:ext cx="2095560" cy="1657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249640"/>
            <a:ext cx="5114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estaa nopeasti ja näppärästi kaapelin eheyd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ompaktin kokoinen ja kestäv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annettavissa kätevästi esim. avaimenperäss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Ilmaisee ledeillä karkeasti kaapelin tyyp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Säilytyspussi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786200" y="1857240"/>
            <a:ext cx="4357800" cy="4822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2249640"/>
            <a:ext cx="4829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ätevän kokoin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Sulkee sisäänsä kaikki paketin työkalut ja tilaa jää muillekkin työkaluil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olme vetoketjullista tasku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lipsilukit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estävä ja konepestäv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Paketin sisältö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ldHeat Pro Soldering To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29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Flexible Shaft Ratcheting Screwdri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19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MagnoGrip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14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Leatherman Skeleto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69.9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PatchTest Ethernet Cable Tes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49.9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thernet Loopback J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6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Säilytyspussi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10.0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Yhteens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210.9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-4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Pakettihinta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125.99</a:t>
            </a:r>
            <a:r>
              <a:rPr b="0" lang="fi-FI" sz="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2:13:41Z</dcterms:created>
  <dc:creator>Pyhis</dc:creator>
  <dc:description/>
  <dc:language>en-US</dc:language>
  <cp:lastModifiedBy>Pyhis</cp:lastModifiedBy>
  <dcterms:modified xsi:type="dcterms:W3CDTF">2008-05-12T04:23:05Z</dcterms:modified>
  <cp:revision>19</cp:revision>
  <dc:subject/>
  <dc:title>Techgeek ultimate jokanörtin asennuspaketti</dc:title>
</cp:coreProperties>
</file>