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58B-6613-4691-BB52-38A6C13A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3BB-5454-4F55-93F5-2120A28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452-B101-4008-B6FA-4F45E011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DC5-DB98-4281-B6CE-A6B3DDB2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1E0D-0C03-4336-887A-51194FC2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9EE4-4EF8-4D76-9745-D4789B4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598-03A0-446D-97DB-F24A244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CF2-273C-41B9-AB00-5104BF7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3F4-931C-4C83-AFAA-B11A738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E9F6-EC91-4307-B5A9-321E56A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475-3752-48DE-832C-F41F5C2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0BD-25E4-4685-AF13-8B518C6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6C3B-41FB-4863-80D1-AE7C7CC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369-FE81-459A-99EE-E1A073E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5580-9045-4E0A-B95E-3441C2E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1A7-DB4D-46F9-A9D6-C3C2286C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43F-BEF9-49CD-8850-6E2F7273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38A6-933E-40A6-BD9F-FCB37150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E5B34-EF4E-489E-BC34-4FC6707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285A6-B02E-4503-848B-F1CFB5D9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8EDA5-3229-414F-8DA4-301F0AD2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61003-33AF-41C2-B62B-DE34620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7D2-F89F-4F4E-AF5A-A8F852B3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4D5D4-4095-4EE8-96A8-6A3EC6B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61DF9-1B47-4F42-A9EC-6A05744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1C8CE-0EB4-4075-A196-9453169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5D717-9B14-4525-B3BB-F9A38E7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67290-E7DB-4035-BD4E-CC30943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364F9-945A-4D23-8E35-442E9D27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D4A68-38BB-4812-A860-920E2A4D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6904-0AC1-416F-A59C-28C2C992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C9291-02EF-49ED-8467-908AF35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E919-1414-4859-BB56-2FDBC46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F07-63CB-4756-84D5-226215F2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729C-FE6D-4C63-83A6-0980ABE7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DCD9-F1CA-45B1-942F-68017DAA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0E0D-F3F7-471E-A70E-1CEC67F4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B0F5-5B54-4A30-BBC8-A0EEC39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F62C-7D98-42DB-97D6-09C78DB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DDB3-8A83-4F21-BA26-7B272113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CD72-4825-471A-84EA-11073425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6001-D447-4BEE-910A-3B700D1E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EBA1-6930-4E20-A791-BC49E33E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7C0-EA62-443C-80D1-B4982C30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2A3-34AF-4979-9ACE-EE796BA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D3B-A0DB-4B86-BE8D-95D0937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AA1-C1BD-43BD-AE9E-BD7C1AA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FAE-1FB1-42B1-8533-9ED10A5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9E3E-D49B-4A69-9AB7-B1EB4CE9F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8316-6E26-4C37-B20A-757E2CD3D0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C68-8A48-4883-BC3F-86B7CA66A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0DF-17A4-4A7A-8D23-7DD6265D17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Acer Aspir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760" y="392904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oncept of Minilaptop/Netboo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2000160"/>
            <a:ext cx="84060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re is great market for cheap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riginal idea is derivered from Intel’s ClassmatePC, which is manufactured especially for childrens in developing wor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tiny but packs a quite punch it is very handy for lecturers/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made especially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durable, especially the models with 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mes with either Linpus Lite Linux or 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,9”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eights between 0,99-1,26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ce between 300-400 euros depending on OS &amp;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5% size keyboard compared t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uch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l Atom N270 @ 1,6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/16GB SSD or 120/160GB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512-1024MB of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 or 6-cell batte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1x 10/100Mbit Etherne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x USB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 or 1.3 Megapixel Web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-in Microphone/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lots for flash memory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5214960" y="3500280"/>
            <a:ext cx="38005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he OS (Linpus L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odifie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ry lightweight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er friendly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reat for such Netbook like Aspir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sed on Fe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an be modified to look more like your ’regular’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Divided to fou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Basicly all software that connects to internet (Browser, IM, Email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All Office softwares (Word processor, Spreadsheets, Presentations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Softwares that dont fit on either of those categories mentioned above or games (Games, Media Players, Webcam, Paint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Shortcuts to Home/Downloads/My Documents/Pictures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648320" y="3332160"/>
            <a:ext cx="403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ros &amp; C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b2b2b2">
              <a:alpha val="25000"/>
            </a:srgbClr>
          </a:solidFill>
          <a:ln w="12600">
            <a:solidFill>
              <a:srgbClr val="b2b2b2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900" spc="-1" strike="noStrike">
                <a:solidFill>
                  <a:srgbClr val="3f3f3f"/>
                </a:solidFill>
                <a:latin typeface="Arial"/>
              </a:rPr>
              <a:t>Good th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b2b2b2">
              <a:alpha val="25000"/>
            </a:srgbClr>
          </a:solidFill>
          <a:ln w="12600">
            <a:solidFill>
              <a:srgbClr val="b2b2b2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900" spc="-1" strike="noStrike">
                <a:solidFill>
                  <a:srgbClr val="3f3f3f"/>
                </a:solidFill>
                <a:latin typeface="Arial"/>
              </a:rPr>
              <a:t>Bad th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reat for taking notes i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nough power for most of your daily comput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reat battery life (up to 3-7 hours depending on battery &amp; u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ood amount of connec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solution is odd (1024X6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creen is quite 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cks Bluetooth (can be modified easily th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pgrading RAM is frustra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ther noisy fan (can be fixed with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me users might find keyboard bit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uchpad buttons are on the sides instead of being below touchpad like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ny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52:17Z</dcterms:created>
  <dc:creator>Pyhis</dc:creator>
  <dc:description/>
  <dc:language>en-US</dc:language>
  <cp:lastModifiedBy>Pyhis</cp:lastModifiedBy>
  <dcterms:modified xsi:type="dcterms:W3CDTF">2008-12-02T10:21:28Z</dcterms:modified>
  <cp:revision>25</cp:revision>
  <dc:subject/>
  <dc:title>Acer Aspire One</dc:title>
</cp:coreProperties>
</file>