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BAA-FB9F-45CA-A917-F41B721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269-46BC-48B3-AF4B-C10E209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61A-FE3C-4ED6-AE45-34FED8E7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DA5-A04F-4DAF-98A4-43823C7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324-0C86-40B4-879C-6FF032A0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F892-C0D1-444B-8A09-C40FF6C4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E5C2-CF49-4522-B6A7-E678A3C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BC0-8318-44C4-BFA6-999BA19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A21-F586-42BB-8FAD-811E83AA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4738-07D0-4BF5-9EA3-58AE8DF3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FB6A-882D-4D2D-B637-31C4E98A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9B1-751C-4E07-A669-E004A43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09D8-E994-4659-8002-1D74F40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AE1-756B-4371-AAE8-8E5C3035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4BF-47DC-4722-A39A-23F3CCE2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ABCF-6744-4D6C-8C0E-91EC638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AD3B-FF77-484B-9C04-DD2CFF03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47A04-9CDD-4358-9C3B-C6A19487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FFB70-DC88-49A4-8B91-A2C17F9F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2C672-931D-4191-A644-5D98B712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C06BF-CF37-46E4-9FA7-B631F3F4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E96E5-71A7-4586-B29E-ECA93EB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F48-FC76-47FE-8686-3E11659E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6AF35-9C12-41E1-BAB5-D84123DD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13539-4304-4C0C-A0D5-97ACB25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A20D0-4AC3-49B4-A583-F7E7B2EA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6CBA0-D146-4726-9EC5-1363968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8428F-4B37-4451-AB0B-EFA9FC30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C8B26-BA84-4E95-B4E1-4C9C830B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D8318-BF02-4CFD-8DC7-37FA85E2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9B4F-2A79-46CD-9509-1EE498C8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A861-B775-46E8-A3AD-52670B6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895D-BCD3-4E36-88DD-017DACC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F6A-BBAE-49FF-8001-E748979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F342-CC86-4B43-A948-6C6C213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DD606-420E-449D-95A8-81464EF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8C25-4CDC-4165-853C-AE96E32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1B3F-813E-40D6-9013-F5D7EFA0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0A31-97C4-46B6-95BD-41D21F9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0C38-B2C1-4FF5-8061-8FF10C1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3894-4D1A-40F6-B9CB-A6ED90C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5DFA-4316-44DE-A121-F0D78084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0AA1-6BA1-486B-8773-3DB08A08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470-32AE-4167-8742-E456D265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D3C-2C81-4BCB-86A6-66873108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A6F-D6BF-44E6-A107-732BBD6A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204-FBF8-4A4C-824D-5EACBFC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30B-FF1C-418D-9B17-51F1338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6CF3-B626-468E-92C9-2710011129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2b2b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C15-FB86-4AEC-B034-14F52D74C8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70D-3F49-4DF6-A285-91F3F2308E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96969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32B-D45B-4ACA-965E-7C7B151EF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ff"/>
                </a:solidFill>
                <a:latin typeface="Arial"/>
              </a:rPr>
              <a:t>Acer Aspir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760" y="392904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oncept of Minilaptop/Netboo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2000160"/>
            <a:ext cx="84060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re is great market for cheap lap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riginal idea is derivered from Intel’s ClassmatePC, which is manufactured especially for childrens in developing wor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tiny but packs a quite punch it is very handy for lecturers/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made especially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 is durable, especially the models with 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he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mes with either Linpus Lite Linux or 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,9”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eights between 0,99-1,26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ce between 300-400 euros depending on OS &amp;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5% size keyboard compared to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uch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l Atom N270 @ 1,6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8/16GB SSD or 120/160GB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512-1024MB of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 or 6-cell batte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1x 10/100Mbit Etherne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3x USB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 or 1.3 Megapixel Web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-in Microphone/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lots for flash memory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5214960" y="3500280"/>
            <a:ext cx="380052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he OS (Linpus L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odifie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Very lightweight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User friendly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reat for such Netbook like Aspir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sed on Fe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an be modified to look more like your ’regular’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Divided to fou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Basicly all software that connects to internet (Browser, IM, Email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All Office softwares (Word processor, Spreadsheets, Presentations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Softwares that dont fit on either of those categories mentioned above or games (Games, Media Players, Webcam, Paint)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b2b2b2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b2b2b2"/>
                </a:solidFill>
                <a:latin typeface="Arial"/>
              </a:rPr>
              <a:t>Shortcuts to Home/Downloads/My Documents/Pictures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648320" y="3332160"/>
            <a:ext cx="4038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ros &amp; C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b2b2b2">
              <a:alpha val="25000"/>
            </a:srgbClr>
          </a:solidFill>
          <a:ln w="12600">
            <a:solidFill>
              <a:srgbClr val="b2b2b2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900" spc="-1" strike="noStrike">
                <a:solidFill>
                  <a:srgbClr val="3f3f3f"/>
                </a:solidFill>
                <a:latin typeface="Arial"/>
              </a:rPr>
              <a:t>Good th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b2b2b2">
              <a:alpha val="25000"/>
            </a:srgbClr>
          </a:solidFill>
          <a:ln w="12600">
            <a:solidFill>
              <a:srgbClr val="b2b2b2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900" spc="-1" strike="noStrike">
                <a:solidFill>
                  <a:srgbClr val="3f3f3f"/>
                </a:solidFill>
                <a:latin typeface="Arial"/>
              </a:rPr>
              <a:t>Bad th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reat for taking notes i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nough power for most of your daily comput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reat battery life (up to 3-7 hours depending on battery &amp; u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ood amount of connec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solution is odd (1024X6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creen is quite 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cks Bluetooth (can be modified easily thou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pgrading RAM is frustra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ther noisy fan (can be fixed with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me users might find keyboard bit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uchpad buttons are on the sides instead of being below touchpad like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96969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ny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0:52:17Z</dcterms:created>
  <dc:creator>Pyhis</dc:creator>
  <dc:description/>
  <dc:language>en-US</dc:language>
  <cp:lastModifiedBy>Pyhis</cp:lastModifiedBy>
  <dcterms:modified xsi:type="dcterms:W3CDTF">2008-12-02T10:21:28Z</dcterms:modified>
  <cp:revision>25</cp:revision>
  <dc:subject/>
  <dc:title>Acer Aspire One</dc:title>
</cp:coreProperties>
</file>